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A5DC-CBE7-49B0-8533-322DE19CA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45D1-B762-4A76-A08F-48FCCB68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0FD9-41DD-4ABA-AB9D-E4C1AA91D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5C19-68F6-451D-859C-9D841C0A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AF97-6E03-4B94-901D-4A29274E7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29A4-BC68-40A0-9F28-E89C1DDB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33A7-7313-48A0-8CF6-6E10CC21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A16D-00D8-4B50-8716-92FA2D93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1F06-8DEA-4EE1-8F7A-5C7A6F86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23960" y="1295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1A2A-DFC8-48D7-B248-D21B0442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72AE-AE7E-43B0-8015-01C17914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7CBD-9ADD-4969-A121-260CBDAF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DBF4-590A-495D-A489-A47A35EF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FB2A-5FAC-4EA8-A83C-90104DF3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CB2B-533F-452B-9E49-002AA842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BEC7-B7CC-437A-B5E6-A5EB1128D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1146-9E70-49F2-B3B0-96EDDAC0D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4710-093A-493D-A3AC-C4C15FC5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8FAA-D01F-44CF-B21F-B6C30C84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AA95-F701-4F3C-A52E-8BC1BB58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3960" y="1295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EFA7-4473-4423-A791-3F882B42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A62A-1772-42B2-93A9-36EDBA10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F4ED-8DF3-46A0-A69A-30059EB4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AA6A-AD61-496D-A92E-05EE1DC4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39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622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912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FF02-6B88-4F32-A904-0395584E0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295280" y="1701720"/>
            <a:ext cx="118080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309C-5E7F-458D-9BF0-F2D011BF3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1980720"/>
            <a:ext cx="6095880" cy="142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G 540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ed Accounting Informa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roup Project Proc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’s &amp; Group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Evaluations (Who/wha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group member will evaluate every other group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in term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ment to th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deal constructively with confl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participation in decision-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ability for assigned task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 of initiative or leadership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Evaluations (Whe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end of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-100 point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 individual evaluation is a D or less (&lt; 67) your overall project score will be 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 Invitation or Click “Join”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if you haven’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e-mail for Inv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 address comes from e-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your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a Picture (nice but not requir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your e-community 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ve Web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Add material to any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Edit material already posted to a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Delete material posted to a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Create a new page with new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Pages, Podcasts, Video, Audio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396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iver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DFD sections of chapter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ed course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January 1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GH Problem 4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nderful Stuff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do this in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Things to Keep You Bu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thinking about tea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nd your team members will be spending a lot of time together so choose wis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schedules of other prospective team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the team ch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urse documents of 5405 Web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January 2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Exp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he concepts of 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open the door. You enter by yourself”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old Chinese prover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ing the concepts (Group C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e have to learn to do, we learn by doing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ristot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ing 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FD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D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ing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B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llabus High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Steven Hor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shornik@bus.ucf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Webpage: http://acg5405.wikispaces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 Hour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rsday 5:00-6:00; Tuesday 10:00 – 11:30  and by appoin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 (Yahoo): shor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use Meebo Widget in Wikisp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396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xt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ing Information Systems 7th ed., by  Gelinas and D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countants Guide to XBRL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ed., by Clinton E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ly at http:www.skipwhit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 Gliffy Account – Web Based Modeling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 1 (G&amp;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Exam (XBRL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Pro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Assignment (4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Po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ing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7428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 4.00 100-9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- 3.75 92-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+ 3.25 89-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 3.00 85-8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- 2.75 82-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+ 2.25 79-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 2.00 75-7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27428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- 1.75 72-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+ 1.25 69-6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 1.00 65-6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- 0.75 62-6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 0.00 &lt;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graded Assignments (UGH’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permitting we will do these in-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likely you’re group will do them in class, and we will ro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-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solving / model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urse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you with the basic background and tools that will allow you 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acilitate and/or ass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evolution of contemporary accounting informa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equires a solid understanding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which effective systems a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igned and develop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y compon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n effectiv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ntity-wide internal control 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which efficien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atabase desi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used to improv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counting information f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the contemporary issues involved in providing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ssurance services for systems and database reliabi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in Understanding of XB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ily, to become consumers of information related to new technolo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7T16:18:38Z</dcterms:created>
  <dc:creator>shornik</dc:creator>
  <dc:description/>
  <dc:language>en-US</dc:language>
  <cp:lastModifiedBy>Steven Hornik</cp:lastModifiedBy>
  <dcterms:modified xsi:type="dcterms:W3CDTF">2009-01-08T21:31:43Z</dcterms:modified>
  <cp:revision>56</cp:revision>
  <dc:subject/>
  <dc:title>ACG 5405 Intro</dc:title>
</cp:coreProperties>
</file>